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7370-C0FD-4BAE-B549-8F0FE5FC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gap between data and decision support.  GEOSS will have to – someday – facilitate data fusion / IC / value-a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Quality community has been very engaged with AIP.  Scenario written by community.  Very ambit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gap between data and decision support.  GEOSS will have to – someday – facilitate data fusion / IC / value-a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805-87B8-4657-A502-FD04AE26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12D-A4A5-4118-BBFD-286929C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57B-7300-412A-B971-35974164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DDB-5254-4F07-AC39-FCAEFAA6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5DA-B7D4-4F51-82A5-5B61A87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664-0398-4BEC-B7EF-F17E5E7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4AD-E398-4889-AB6D-EDD84E9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B9C-5974-4424-A581-3E5A803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7FA-4A49-4AE3-9E81-1D14CBEE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5B0-8D41-4EB9-87B3-AEE73EC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7B6-BF4B-40A6-BDF1-08E7D15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523-7AE3-4A5B-9798-1D3B3B1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5724-42E2-42B7-8215-B2F9B3D6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O Air Quality Community of Practice:</a:t>
            </a:r>
            <a:br>
              <a:rPr sz="4400"/>
            </a:br>
            <a:br>
              <a:rPr sz="1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Observations to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9800" y="3580920"/>
            <a:ext cx="683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McCabe, Phil Dickerson, Lawrence Friedl, Rudy Husar, Terry Keating, Frank Lindsay,    Erin Robinson, and Stefan Fal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34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SE 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a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: AQ Communit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Forecasting &amp; Publ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modeling and evaluation initiativ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S Atmospheric Composition Const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rtual constellation of satellite sensors focu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the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mate fo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planning an Atmospheric Composition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600" y="1270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we stan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6000" y="1600200"/>
            <a:ext cx="2946240" cy="2019240"/>
            <a:chOff x="216000" y="1600200"/>
            <a:chExt cx="2946240" cy="2019240"/>
          </a:xfrm>
        </p:grpSpPr>
        <p:sp>
          <p:nvSpPr>
            <p:cNvPr id="196" name=""/>
            <p:cNvSpPr/>
            <p:nvPr/>
          </p:nvSpPr>
          <p:spPr>
            <a:xfrm>
              <a:off x="216000" y="1600200"/>
              <a:ext cx="2946240" cy="2019240"/>
            </a:xfrm>
            <a:prstGeom prst="ellipse">
              <a:avLst/>
            </a:prstGeom>
            <a:solidFill>
              <a:srgbClr val="a7ff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280" y="1752480"/>
              <a:ext cx="2850480" cy="18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ata Need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mbient   Meteorolog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missions   Mode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751360" y="1353960"/>
            <a:ext cx="33148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olicy mak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intercontinental tran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Q manag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an exceptiona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planning activities today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05080" y="1308600"/>
            <a:ext cx="1697040" cy="101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unity Infra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520" y="4280040"/>
            <a:ext cx="8356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Q Community of Practice has a strong role in coordinating and developing the tools and capabilities that will fill the gap between the GCI and decision suppo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ope you will get involved and enga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69480" y="1157400"/>
            <a:ext cx="1137240" cy="981720"/>
            <a:chOff x="4569480" y="1157400"/>
            <a:chExt cx="1137240" cy="981720"/>
          </a:xfrm>
        </p:grpSpPr>
        <p:sp>
          <p:nvSpPr>
            <p:cNvPr id="202" name=""/>
            <p:cNvSpPr/>
            <p:nvPr/>
          </p:nvSpPr>
          <p:spPr>
            <a:xfrm>
              <a:off x="4569480" y="1199880"/>
              <a:ext cx="1133640" cy="80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127600">
              <a:off x="4803120" y="1326960"/>
              <a:ext cx="7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426560" y="3308760"/>
            <a:ext cx="1279440" cy="781200"/>
            <a:chOff x="4426560" y="3308760"/>
            <a:chExt cx="1279440" cy="781200"/>
          </a:xfrm>
        </p:grpSpPr>
        <p:sp>
          <p:nvSpPr>
            <p:cNvPr id="205" name=""/>
            <p:cNvSpPr/>
            <p:nvPr/>
          </p:nvSpPr>
          <p:spPr>
            <a:xfrm flipV="1">
              <a:off x="4426560" y="3541320"/>
              <a:ext cx="127944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206800">
              <a:off x="4563360" y="3494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 Quality Community Meet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ta Barbara, Calif., 8 &amp; 9 July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1767" t="3107" r="15178" b="4237"/>
          <a:stretch/>
        </p:blipFill>
        <p:spPr>
          <a:xfrm>
            <a:off x="4559400" y="2982960"/>
            <a:ext cx="4267080" cy="2975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0200" y="1552680"/>
            <a:ext cx="7763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9440" y="1324080"/>
            <a:ext cx="814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at the ESIP summer meeting; we will  have 1.5 days of air quality session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Review infrastructure develop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Review evolving desig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GEO, EPA data strate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Where do we go nex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join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iki.esipfed.org/index.php/Air_Quality_Community_Summer_2009_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-VI Plenary, Washington DC, Novembe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345680"/>
            <a:ext cx="84452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Q Community is expected (and has planned) to demonstr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gnificant tangible res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 side event at the 2009 Plena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d contributions will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IRNow-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RVIR-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Q Community Infrastructure from AIP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from other nations eagerly sough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: AQ Scenario for GEO Architecture Implementation Pilo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Q scenario in the GEO AIP-2 Call for Participation lays out a broad, ambitious vision describing examples of how GEOSS will serve AQ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Spectrum of example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decision-mak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o depend on common upstream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ecisions need support from multiple types of data; no one type is adequ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4317840"/>
            <a:ext cx="2946240" cy="2019240"/>
            <a:chOff x="304920" y="4317840"/>
            <a:chExt cx="2946240" cy="2019240"/>
          </a:xfrm>
        </p:grpSpPr>
        <p:sp>
          <p:nvSpPr>
            <p:cNvPr id="53" name=""/>
            <p:cNvSpPr/>
            <p:nvPr/>
          </p:nvSpPr>
          <p:spPr>
            <a:xfrm>
              <a:off x="304920" y="4317840"/>
              <a:ext cx="2946240" cy="2019240"/>
            </a:xfrm>
            <a:prstGeom prst="ellipse">
              <a:avLst/>
            </a:prstGeom>
            <a:solidFill>
              <a:srgbClr val="a7ff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200" y="4470120"/>
              <a:ext cx="2850480" cy="18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ata Need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mbient   Meteorolog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missions   Mode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688000" y="4071960"/>
            <a:ext cx="33148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olicy mak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intercontinental tran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Q manag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an exceptiona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planning activities today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V="1">
            <a:off x="5721480" y="2064960"/>
            <a:ext cx="10429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19840" y="1486080"/>
            <a:ext cx="955800" cy="62208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82840" y="138924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gre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19840" y="2743200"/>
            <a:ext cx="955800" cy="62244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6840" y="245592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Was pol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event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from af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60720" y="2610000"/>
            <a:ext cx="979560" cy="583200"/>
            <a:chOff x="5760720" y="2610000"/>
            <a:chExt cx="979560" cy="583200"/>
          </a:xfrm>
        </p:grpSpPr>
        <p:sp>
          <p:nvSpPr>
            <p:cNvPr id="62" name=""/>
            <p:cNvSpPr/>
            <p:nvPr/>
          </p:nvSpPr>
          <p:spPr>
            <a:xfrm>
              <a:off x="5760720" y="2831040"/>
              <a:ext cx="97956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622200">
              <a:off x="5806800" y="267192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40440" y="4127400"/>
            <a:ext cx="746280" cy="540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644440" y="3554640"/>
            <a:ext cx="1325160" cy="951840"/>
            <a:chOff x="5644440" y="3554640"/>
            <a:chExt cx="1325160" cy="951840"/>
          </a:xfrm>
        </p:grpSpPr>
        <p:sp>
          <p:nvSpPr>
            <p:cNvPr id="66" name=""/>
            <p:cNvSpPr/>
            <p:nvPr/>
          </p:nvSpPr>
          <p:spPr>
            <a:xfrm>
              <a:off x="5782680" y="3804480"/>
              <a:ext cx="112932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529400">
              <a:off x="5682240" y="3800880"/>
              <a:ext cx="124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QI toda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morrow, l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748640" y="4011480"/>
            <a:ext cx="116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s it healt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go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 run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69080" y="68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 mak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35360" y="2457360"/>
            <a:ext cx="104616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81480" y="327672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69320" y="30402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731040" y="1879560"/>
            <a:ext cx="840960" cy="610920"/>
            <a:chOff x="3731040" y="1879560"/>
            <a:chExt cx="840960" cy="610920"/>
          </a:xfrm>
        </p:grpSpPr>
        <p:sp>
          <p:nvSpPr>
            <p:cNvPr id="74" name=""/>
            <p:cNvSpPr/>
            <p:nvPr/>
          </p:nvSpPr>
          <p:spPr>
            <a:xfrm>
              <a:off x="3746520" y="2084400"/>
              <a:ext cx="82548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575000">
              <a:off x="3751920" y="203688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677400" y="2529000"/>
            <a:ext cx="836280" cy="459720"/>
            <a:chOff x="3677400" y="2529000"/>
            <a:chExt cx="836280" cy="459720"/>
          </a:xfrm>
        </p:grpSpPr>
        <p:sp>
          <p:nvSpPr>
            <p:cNvPr id="77" name=""/>
            <p:cNvSpPr/>
            <p:nvPr/>
          </p:nvSpPr>
          <p:spPr>
            <a:xfrm flipV="1">
              <a:off x="3746520" y="2766960"/>
              <a:ext cx="767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1597000">
              <a:off x="3677400" y="252936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rot="20263800">
            <a:off x="5477400" y="1674360"/>
            <a:ext cx="121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tin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utant 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30560" y="3081240"/>
            <a:ext cx="54144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960" y="3271680"/>
            <a:ext cx="54144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5360" y="3448080"/>
            <a:ext cx="109728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75960" y="3515400"/>
            <a:ext cx="837000" cy="459720"/>
            <a:chOff x="3675960" y="3515400"/>
            <a:chExt cx="837000" cy="459720"/>
          </a:xfrm>
        </p:grpSpPr>
        <p:sp>
          <p:nvSpPr>
            <p:cNvPr id="84" name=""/>
            <p:cNvSpPr/>
            <p:nvPr/>
          </p:nvSpPr>
          <p:spPr>
            <a:xfrm flipV="1">
              <a:off x="3746520" y="3757680"/>
              <a:ext cx="766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1597000">
              <a:off x="3675960" y="351576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665880" y="3945600"/>
            <a:ext cx="896040" cy="658440"/>
            <a:chOff x="3665880" y="3945600"/>
            <a:chExt cx="896040" cy="658440"/>
          </a:xfrm>
        </p:grpSpPr>
        <p:sp>
          <p:nvSpPr>
            <p:cNvPr id="87" name=""/>
            <p:cNvSpPr/>
            <p:nvPr/>
          </p:nvSpPr>
          <p:spPr>
            <a:xfrm flipV="1">
              <a:off x="3794040" y="4065120"/>
              <a:ext cx="76788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596000">
              <a:off x="3677760" y="41364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55800" y="329076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7760" y="30463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30400" y="2188080"/>
            <a:ext cx="925920" cy="826560"/>
            <a:chOff x="1130400" y="2188080"/>
            <a:chExt cx="925920" cy="826560"/>
          </a:xfrm>
        </p:grpSpPr>
        <p:sp>
          <p:nvSpPr>
            <p:cNvPr id="92" name=""/>
            <p:cNvSpPr/>
            <p:nvPr/>
          </p:nvSpPr>
          <p:spPr>
            <a:xfrm>
              <a:off x="1130400" y="2529360"/>
              <a:ext cx="781560" cy="4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12200">
              <a:off x="1214640" y="2355120"/>
              <a:ext cx="7718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M, N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um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054800" y="3354480"/>
            <a:ext cx="904680" cy="747720"/>
            <a:chOff x="1054800" y="3354480"/>
            <a:chExt cx="904680" cy="747720"/>
          </a:xfrm>
        </p:grpSpPr>
        <p:sp>
          <p:nvSpPr>
            <p:cNvPr id="95" name=""/>
            <p:cNvSpPr/>
            <p:nvPr/>
          </p:nvSpPr>
          <p:spPr>
            <a:xfrm flipV="1">
              <a:off x="1222560" y="3546720"/>
              <a:ext cx="6937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097000">
              <a:off x="1114920" y="349848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57400" y="14223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3062160"/>
            <a:ext cx="617760" cy="44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7800" y="3016080"/>
            <a:ext cx="1268280" cy="56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ata 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5680" y="3859200"/>
            <a:ext cx="871560" cy="466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2198520"/>
            <a:ext cx="657360" cy="470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36800" y="3650400"/>
            <a:ext cx="1148400" cy="1169280"/>
            <a:chOff x="1036800" y="3650400"/>
            <a:chExt cx="1148400" cy="1169280"/>
          </a:xfrm>
        </p:grpSpPr>
        <p:sp>
          <p:nvSpPr>
            <p:cNvPr id="103" name=""/>
            <p:cNvSpPr/>
            <p:nvPr/>
          </p:nvSpPr>
          <p:spPr>
            <a:xfrm flipV="1">
              <a:off x="1099440" y="3665880"/>
              <a:ext cx="1085760" cy="11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8808200">
              <a:off x="1019520" y="40053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b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ent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31800" y="4772160"/>
            <a:ext cx="1096920" cy="780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45200" y="3789360"/>
            <a:ext cx="778320" cy="1404720"/>
            <a:chOff x="1645200" y="3789360"/>
            <a:chExt cx="778320" cy="1404720"/>
          </a:xfrm>
        </p:grpSpPr>
        <p:sp>
          <p:nvSpPr>
            <p:cNvPr id="107" name=""/>
            <p:cNvSpPr/>
            <p:nvPr/>
          </p:nvSpPr>
          <p:spPr>
            <a:xfrm flipV="1">
              <a:off x="1723680" y="3789360"/>
              <a:ext cx="67500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7697000">
              <a:off x="1604880" y="4278600"/>
              <a:ext cx="85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i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Q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3360" y="5754600"/>
            <a:ext cx="781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ink: exists, hard to get, hard to use: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GEOSS (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GCI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) can hel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lue: not currently operationally existent;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our goal for broad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Green: not currently adequate;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what society needs from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21480" y="2064960"/>
            <a:ext cx="1042920" cy="423720"/>
          </a:xfrm>
          <a:prstGeom prst="line">
            <a:avLst/>
          </a:prstGeom>
          <a:ln w="93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19840" y="1486080"/>
            <a:ext cx="955800" cy="62208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82840" y="138924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gre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19840" y="2743200"/>
            <a:ext cx="955800" cy="62244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46840" y="245592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Was pol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event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from af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761080" y="2613240"/>
            <a:ext cx="979560" cy="583200"/>
            <a:chOff x="5761080" y="2613240"/>
            <a:chExt cx="979560" cy="583200"/>
          </a:xfrm>
        </p:grpSpPr>
        <p:sp>
          <p:nvSpPr>
            <p:cNvPr id="117" name=""/>
            <p:cNvSpPr/>
            <p:nvPr/>
          </p:nvSpPr>
          <p:spPr>
            <a:xfrm>
              <a:off x="5761080" y="2831040"/>
              <a:ext cx="979560" cy="178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2200">
              <a:off x="5808240" y="267516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Ev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940440" y="4127400"/>
            <a:ext cx="746280" cy="540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668560" y="3576960"/>
            <a:ext cx="1279800" cy="930240"/>
            <a:chOff x="5668560" y="3576960"/>
            <a:chExt cx="1279800" cy="930240"/>
          </a:xfrm>
        </p:grpSpPr>
        <p:sp>
          <p:nvSpPr>
            <p:cNvPr id="121" name=""/>
            <p:cNvSpPr/>
            <p:nvPr/>
          </p:nvSpPr>
          <p:spPr>
            <a:xfrm>
              <a:off x="5783040" y="3806640"/>
              <a:ext cx="1128960" cy="538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29400">
              <a:off x="5708880" y="3812400"/>
              <a:ext cx="119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AQI toda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tomorrow, l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748640" y="4011480"/>
            <a:ext cx="116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s it healt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go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 run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68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 mak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5360" y="2457360"/>
            <a:ext cx="104616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81480" y="3276720"/>
            <a:ext cx="64584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69320" y="30402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734280" y="1881000"/>
            <a:ext cx="837720" cy="609840"/>
            <a:chOff x="3734280" y="1881000"/>
            <a:chExt cx="837720" cy="609840"/>
          </a:xfrm>
        </p:grpSpPr>
        <p:sp>
          <p:nvSpPr>
            <p:cNvPr id="129" name=""/>
            <p:cNvSpPr/>
            <p:nvPr/>
          </p:nvSpPr>
          <p:spPr>
            <a:xfrm>
              <a:off x="3746520" y="2084400"/>
              <a:ext cx="825480" cy="40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75000">
              <a:off x="3755160" y="203832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80280" y="2531160"/>
            <a:ext cx="834120" cy="459720"/>
            <a:chOff x="3680280" y="2531160"/>
            <a:chExt cx="834120" cy="459720"/>
          </a:xfrm>
        </p:grpSpPr>
        <p:sp>
          <p:nvSpPr>
            <p:cNvPr id="132" name=""/>
            <p:cNvSpPr/>
            <p:nvPr/>
          </p:nvSpPr>
          <p:spPr>
            <a:xfrm flipV="1">
              <a:off x="3747240" y="2766600"/>
              <a:ext cx="767160" cy="3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597000">
              <a:off x="3680280" y="253152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20263800">
            <a:off x="5480640" y="1674360"/>
            <a:ext cx="121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intercontin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pollutant 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30560" y="3081240"/>
            <a:ext cx="541440" cy="192240"/>
          </a:xfrm>
          <a:prstGeom prst="line">
            <a:avLst/>
          </a:prstGeom>
          <a:ln w="93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17960" y="3271680"/>
            <a:ext cx="541440" cy="192240"/>
          </a:xfrm>
          <a:prstGeom prst="line">
            <a:avLst/>
          </a:prstGeom>
          <a:ln w="93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5360" y="3448080"/>
            <a:ext cx="109728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677400" y="3519360"/>
            <a:ext cx="836280" cy="459720"/>
            <a:chOff x="3677400" y="3519360"/>
            <a:chExt cx="836280" cy="459720"/>
          </a:xfrm>
        </p:grpSpPr>
        <p:sp>
          <p:nvSpPr>
            <p:cNvPr id="139" name=""/>
            <p:cNvSpPr/>
            <p:nvPr/>
          </p:nvSpPr>
          <p:spPr>
            <a:xfrm flipV="1">
              <a:off x="3746520" y="3757320"/>
              <a:ext cx="767160" cy="3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597000">
              <a:off x="3677400" y="351972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69480" y="3946320"/>
            <a:ext cx="892440" cy="658440"/>
            <a:chOff x="3669480" y="3946320"/>
            <a:chExt cx="892440" cy="658440"/>
          </a:xfrm>
        </p:grpSpPr>
        <p:sp>
          <p:nvSpPr>
            <p:cNvPr id="142" name=""/>
            <p:cNvSpPr/>
            <p:nvPr/>
          </p:nvSpPr>
          <p:spPr>
            <a:xfrm flipV="1">
              <a:off x="3794400" y="4065840"/>
              <a:ext cx="767520" cy="507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596000">
              <a:off x="3681360" y="413712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55800" y="3290760"/>
            <a:ext cx="885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7760" y="30463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me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30760" y="2194920"/>
            <a:ext cx="927360" cy="819360"/>
            <a:chOff x="1130760" y="2194920"/>
            <a:chExt cx="927360" cy="819360"/>
          </a:xfrm>
        </p:grpSpPr>
        <p:sp>
          <p:nvSpPr>
            <p:cNvPr id="147" name=""/>
            <p:cNvSpPr/>
            <p:nvPr/>
          </p:nvSpPr>
          <p:spPr>
            <a:xfrm>
              <a:off x="1130760" y="2529000"/>
              <a:ext cx="781920" cy="485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12200">
              <a:off x="1216440" y="2361960"/>
              <a:ext cx="7718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PM, NO</a:t>
              </a:r>
              <a:r>
                <a:rPr b="0" lang="en-US" sz="12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colum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57680" y="3354480"/>
            <a:ext cx="904680" cy="747720"/>
            <a:chOff x="1057680" y="3354480"/>
            <a:chExt cx="904680" cy="747720"/>
          </a:xfrm>
        </p:grpSpPr>
        <p:sp>
          <p:nvSpPr>
            <p:cNvPr id="150" name=""/>
            <p:cNvSpPr/>
            <p:nvPr/>
          </p:nvSpPr>
          <p:spPr>
            <a:xfrm flipV="1">
              <a:off x="1222200" y="3546720"/>
              <a:ext cx="693720" cy="326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97000">
              <a:off x="1117800" y="349848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7400" y="14223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040" y="3062160"/>
            <a:ext cx="617760" cy="44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17800" y="3016080"/>
            <a:ext cx="1268280" cy="568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ata 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5680" y="3859200"/>
            <a:ext cx="871560" cy="466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640" y="2198520"/>
            <a:ext cx="657360" cy="470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39680" y="3659400"/>
            <a:ext cx="1145520" cy="1169280"/>
            <a:chOff x="1039680" y="3659400"/>
            <a:chExt cx="1145520" cy="1169280"/>
          </a:xfrm>
        </p:grpSpPr>
        <p:sp>
          <p:nvSpPr>
            <p:cNvPr id="158" name=""/>
            <p:cNvSpPr/>
            <p:nvPr/>
          </p:nvSpPr>
          <p:spPr>
            <a:xfrm flipV="1">
              <a:off x="1099440" y="3665880"/>
              <a:ext cx="1085760" cy="1117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808200">
              <a:off x="1022400" y="40143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amb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concent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31800" y="4772160"/>
            <a:ext cx="1096920" cy="780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47000" y="3789360"/>
            <a:ext cx="778320" cy="1404720"/>
            <a:chOff x="1647000" y="3789360"/>
            <a:chExt cx="778320" cy="1404720"/>
          </a:xfrm>
        </p:grpSpPr>
        <p:sp>
          <p:nvSpPr>
            <p:cNvPr id="162" name=""/>
            <p:cNvSpPr/>
            <p:nvPr/>
          </p:nvSpPr>
          <p:spPr>
            <a:xfrm flipV="1">
              <a:off x="1723680" y="3789360"/>
              <a:ext cx="675000" cy="1404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7697000">
              <a:off x="1606680" y="4286520"/>
              <a:ext cx="85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emi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Q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190440"/>
            <a:ext cx="84582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s of the AQ Community 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2195640"/>
            <a:ext cx="87757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upon the GCI: as GEOSS grow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etter Access and Discovery of 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--&gt;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will requi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munity engageme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nd maintaining the core Community Infrastructure (AIP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needed data, information, and tools needed to serve users and make them available and usable within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conventions and best practices for developing the GE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is work is best handled by a Community of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among the many relevant initiatives and activities working on aspects of AQ 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760" y="938160"/>
            <a:ext cx="848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envisions Communities of Practice as important links between GEO organizations, practitioners who collect and analyze observations, and e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-2: AQ Community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following 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1280" y="3875040"/>
            <a:ext cx="513000" cy="74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4880" y="3860640"/>
            <a:ext cx="15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Find: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CSW/RSS/I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98920" y="3885840"/>
            <a:ext cx="466560" cy="74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67120" y="5106600"/>
            <a:ext cx="1224000" cy="17640"/>
          </a:xfrm>
          <a:prstGeom prst="line">
            <a:avLst/>
          </a:prstGeom>
          <a:ln w="381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33640" y="4865760"/>
            <a:ext cx="1141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B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WMS/W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84440" y="3997440"/>
            <a:ext cx="131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ublish: 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ISO Metadata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67280" y="531972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186000" y="4660920"/>
            <a:ext cx="603360" cy="1001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49400" y="5408640"/>
            <a:ext cx="11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098960" y="3198960"/>
            <a:ext cx="601560" cy="1006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4098960" y="3198960"/>
            <a:ext cx="601560" cy="100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1" descr=""/>
          <p:cNvPicPr/>
          <p:nvPr/>
        </p:nvPicPr>
        <p:blipFill>
          <a:blip r:embed="rId4"/>
          <a:stretch/>
        </p:blipFill>
        <p:spPr>
          <a:xfrm>
            <a:off x="5146560" y="4633920"/>
            <a:ext cx="706680" cy="905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635280" y="2720880"/>
            <a:ext cx="16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earing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: AQ Communit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Forecasting &amp; Publ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O Work Plan Task HE-09-0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Now-International, AIRAWAR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previous talks re: AIRNow-International, AIRAWAR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5078" t="22431" r="69969" b="30124"/>
          <a:stretch/>
        </p:blipFill>
        <p:spPr>
          <a:xfrm>
            <a:off x="2338560" y="3848040"/>
            <a:ext cx="2206440" cy="1573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89400" y="4535640"/>
            <a:ext cx="2131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: AQ Communit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Forecasting &amp; Publ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modeling and evaluation initiativ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CLRTAP TF Hemispheric Transport of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tmospheric Brown Cloud Initi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Mercury Fate &amp; Transport Research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 Work Plan Task HE-09-0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ir Quality Model Evaluation International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 Work Plan Task DA-09-0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ero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IGAC-SPARC Atmospheric Chemistry &amp; Climat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CCENT, GEMS / M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AP Data Network Pi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329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6040" y="4767120"/>
            <a:ext cx="75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1:  Connect Juelich to DataFed/NEIS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completed by end of FY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2:  Connect Giovanni, NILU, AeroCom, Lang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3:  Connect to CMAS, RSI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11:19Z</dcterms:created>
  <dc:creator>David McCabe</dc:creator>
  <dc:description/>
  <dc:language>en-US</dc:language>
  <cp:lastModifiedBy>David McCabe</cp:lastModifiedBy>
  <dcterms:modified xsi:type="dcterms:W3CDTF">2009-05-05T19:52:57Z</dcterms:modified>
  <cp:revision>14</cp:revision>
  <dc:subject/>
  <dc:title>The GEO Air Quality Community of Practice:  From Observations to Decision Support</dc:title>
</cp:coreProperties>
</file>